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BAE1-F7D7-44CE-880F-7C54D43F2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2560" y="217364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E92D-0A7C-449E-8788-F59C3A317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2408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785D-9CCC-47E5-A93C-8EB78F11D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256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590588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851956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8B70-6650-42F0-A1A2-F4D30DFFD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ADA3-4D42-4F65-BD82-3D95F6356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9151-914C-41DB-9351-762ABB15E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C3AB-9FED-41FF-B70D-A2CE96043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38AE-114C-4EAD-91BA-5BB14E05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92560" y="1828800"/>
            <a:ext cx="37306080" cy="35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62DF-7D21-427C-9491-299CC4047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5689-959C-4E21-879B-7E4169E2D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408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A829-80B7-49BE-A412-94E9D84ED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031F-731F-4D08-B0AC-3055A3202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marL="1652760" indent="-16462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71920" indent="-137160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92880" indent="-109692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6720" indent="-10969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329680" y="29992320"/>
            <a:ext cx="13924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7D6A-A45E-4D37-8909-CDFE5998A3E5}" type="slidenum"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791000" y="18554760"/>
            <a:ext cx="13716000" cy="13855680"/>
          </a:xfrm>
          <a:prstGeom prst="rect">
            <a:avLst/>
          </a:prstGeom>
          <a:solidFill>
            <a:srgbClr val="f9f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5329680" y="29992320"/>
            <a:ext cx="13924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3C54-A301-41DF-8532-F834DFA35195}" type="slidenum"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33440" y="1066680"/>
            <a:ext cx="41224320" cy="2210040"/>
          </a:xfrm>
          <a:prstGeom prst="rect">
            <a:avLst/>
          </a:prstGeom>
          <a:solidFill>
            <a:srgbClr val="86a1c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13160" y="5867280"/>
            <a:ext cx="13258800" cy="26492400"/>
          </a:xfrm>
          <a:prstGeom prst="rect">
            <a:avLst/>
          </a:prstGeom>
          <a:solidFill>
            <a:srgbClr val="ebf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391176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791320"/>
            <a:ext cx="13716000" cy="12077640"/>
          </a:xfrm>
          <a:prstGeom prst="rect">
            <a:avLst/>
          </a:prstGeom>
          <a:solidFill>
            <a:srgbClr val="b2b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3320" y="18326160"/>
            <a:ext cx="13716000" cy="14084280"/>
          </a:xfrm>
          <a:prstGeom prst="rect">
            <a:avLst/>
          </a:prstGeom>
          <a:solidFill>
            <a:srgbClr val="c0aa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03600" y="5854680"/>
            <a:ext cx="13716000" cy="12319200"/>
          </a:xfrm>
          <a:prstGeom prst="rect">
            <a:avLst/>
          </a:prstGeom>
          <a:solidFill>
            <a:srgbClr val="b4cb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74600" y="1384200"/>
            <a:ext cx="1112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Question or proble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6172200"/>
            <a:ext cx="1327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45080" y="19062720"/>
            <a:ext cx="1159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EXPLANA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175200" y="6019920"/>
            <a:ext cx="11595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41680" y="374652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24440" y="389880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8897480"/>
            <a:ext cx="13271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PREDI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lly Schauffler</dc:creator>
  <dc:description/>
  <dc:language>en-US</dc:language>
  <cp:lastModifiedBy/>
  <cp:revision>0</cp:revision>
  <dc:subject/>
  <dc:title>PowerPoint Presentation</dc:title>
</cp:coreProperties>
</file>